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2956F-045A-4AA0-951B-4E359223D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1A2E5-48C8-4D69-A0A0-15776DBD9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696B5-BDC2-4758-96AE-D69850842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F908F-87B3-42F4-9C4B-FC721ED96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A687E-A1F5-42D7-B781-269C2AA8D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B040F-7D42-4B63-BCD3-4895D0A34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08704-34EF-4499-BBC3-FAE6F2F4F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EEEAB-9350-42BB-9CD4-B3E5B50B3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65F75-C6E7-4524-9AA3-61D8647CD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21E5C-DACA-4163-B8BD-AC04489E4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C0D29-E0BE-4129-B13D-A31E7EF31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CD9A8-91C0-4C11-97E3-D57B5EC79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98794-244E-4656-8F7C-508BFC17E6FE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64840" y="1628640"/>
            <a:ext cx="8775720" cy="213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TÍTULO DO TRABALHO: SUBTÍTULO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64840" y="39560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ubtítulo 2"/>
          <p:cNvSpPr/>
          <p:nvPr/>
        </p:nvSpPr>
        <p:spPr>
          <a:xfrm>
            <a:off x="565200" y="4789440"/>
            <a:ext cx="87757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Orientad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Subtítulo 2"/>
          <p:cNvSpPr/>
          <p:nvPr/>
        </p:nvSpPr>
        <p:spPr>
          <a:xfrm>
            <a:off x="565200" y="5300640"/>
            <a:ext cx="8775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Co-orientador (se já houv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ubtítulo 2"/>
          <p:cNvSpPr/>
          <p:nvPr/>
        </p:nvSpPr>
        <p:spPr>
          <a:xfrm>
            <a:off x="3443400" y="5954760"/>
            <a:ext cx="3027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Rio de Janeiro, 201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1. INTRODUÇÃO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2. DESENVOLVIMENTO A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3. DESENVOLVIMENTO B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adro/tabela, caso seja necessári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473040" y="3238560"/>
          <a:ext cx="8972640" cy="2773440"/>
        </p:xfrm>
        <a:graphic>
          <a:graphicData uri="http://schemas.openxmlformats.org/drawingml/2006/table">
            <a:tbl>
              <a:tblPr/>
              <a:tblGrid>
                <a:gridCol w="4022640"/>
                <a:gridCol w="706680"/>
                <a:gridCol w="707760"/>
                <a:gridCol w="706680"/>
                <a:gridCol w="707760"/>
                <a:gridCol w="706680"/>
                <a:gridCol w="708120"/>
                <a:gridCol w="706320"/>
              </a:tblGrid>
              <a:tr h="396720"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Tabela para cronogram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F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Ab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1. Atividade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2. Atividade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3. Atividade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4. Conclus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5. Entrega de relatór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6. Outra a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4. CONSIDERAÇÕES FINAIS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Inserir texto. Se necessário, segue modelo de pontuaçã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64840" y="2573280"/>
            <a:ext cx="87757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NTATO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564840" y="47354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1T05:44:00Z</dcterms:created>
  <dc:creator>Asus</dc:creator>
  <dc:description/>
  <dc:language>en-US</dc:language>
  <cp:lastModifiedBy>Dora</cp:lastModifiedBy>
  <dcterms:modified xsi:type="dcterms:W3CDTF">2017-05-31T15:23:15Z</dcterms:modified>
  <cp:revision>26</cp:revision>
  <dc:subject/>
  <dc:title>TÍTULO DO SEU TRABALHO: SUBTÍTULO</dc:title>
</cp:coreProperties>
</file>