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74046-EBE2-4F63-8E9D-D8E2CEBC22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9D4E3-6EE5-4379-8E34-68249C296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1411-0466-4335-92E5-F5348F3A48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8040" y="182520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076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8040" y="4098240"/>
            <a:ext cx="2750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FACEF-CC2F-4B46-8AAC-75AE956076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9DA43-9993-4C94-9D05-2EFD5D5E3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C396E-102A-4B01-B15C-DF236C3E7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D0F1-0760-4CAE-8666-6D5B45227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8B94-850A-4D8E-86A8-325C57AB9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0760" y="365040"/>
            <a:ext cx="8543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AA6C4-51E1-4B28-9F17-28CE5333A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0D0DF-553F-44F4-A52D-47377C155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8720" y="409824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7E496-6DC4-42CC-9792-F4496FCF0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076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8720" y="1825200"/>
            <a:ext cx="41691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0760" y="4098240"/>
            <a:ext cx="8543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9414F-D815-46E9-9936-DF8CBCC0C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0760" y="365040"/>
            <a:ext cx="8543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0760" y="1825200"/>
            <a:ext cx="8543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076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81040" y="6356520"/>
            <a:ext cx="3343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95880" y="6356520"/>
            <a:ext cx="22287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FED2-C55C-4EBD-A3DA-D7E5EF3E8385}" type="slidenum">
              <a:rPr b="0" lang="pt-B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64840" y="1628640"/>
            <a:ext cx="8775720" cy="213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TÍTULO DO TRABALHO: SUBTÍTULO</a:t>
            </a:r>
            <a:endParaRPr b="0" lang="en-US" sz="32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64840" y="39560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Subtítulo 2"/>
          <p:cNvSpPr/>
          <p:nvPr/>
        </p:nvSpPr>
        <p:spPr>
          <a:xfrm>
            <a:off x="565200" y="4789440"/>
            <a:ext cx="87757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Orientado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Subtítulo 2"/>
          <p:cNvSpPr/>
          <p:nvPr/>
        </p:nvSpPr>
        <p:spPr>
          <a:xfrm>
            <a:off x="565200" y="5300640"/>
            <a:ext cx="87757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bdd7ee"/>
                </a:solidFill>
                <a:latin typeface="Times New Roman"/>
                <a:ea typeface="Times New Roman"/>
              </a:rPr>
              <a:t>Co-orientador (se já houver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Subtítulo 2"/>
          <p:cNvSpPr/>
          <p:nvPr/>
        </p:nvSpPr>
        <p:spPr>
          <a:xfrm>
            <a:off x="3443400" y="5954760"/>
            <a:ext cx="30272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Rio de Janeiro, 201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1. INTRODUÇÃO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1000"/>
                            </p:stCondLst>
                            <p:childTnLst>
                              <p:par>
                                <p:cTn id="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2. DESENVOLVIMENTO A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D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F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3. DESENVOLVIMENTO B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estões pontuadas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Questão 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quadro/tabela, caso seja necessári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" name=""/>
          <p:cNvGraphicFramePr/>
          <p:nvPr/>
        </p:nvGraphicFramePr>
        <p:xfrm>
          <a:off x="473040" y="3238560"/>
          <a:ext cx="8972640" cy="2773440"/>
        </p:xfrm>
        <a:graphic>
          <a:graphicData uri="http://schemas.openxmlformats.org/drawingml/2006/table">
            <a:tbl>
              <a:tblPr/>
              <a:tblGrid>
                <a:gridCol w="4022640"/>
                <a:gridCol w="706680"/>
                <a:gridCol w="707760"/>
                <a:gridCol w="706680"/>
                <a:gridCol w="707760"/>
                <a:gridCol w="706680"/>
                <a:gridCol w="708120"/>
                <a:gridCol w="706320"/>
              </a:tblGrid>
              <a:tr h="396720"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Tabela para cronograma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a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Fev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Ab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Ma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Ju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1872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1. Atividade 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1872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2. Atividade 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3. Atividade 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4. Conclus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5. Entrega de relatór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  <a:tr h="396720">
                <a:tc>
                  <a:txBody>
                    <a:bodyPr lIns="74160" rIns="741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6. Outra açã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1872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576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  <a:tc>
                  <a:txBody>
                    <a:bodyPr lIns="74160" rIns="741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f2f2f2"/>
                          </a:solidFill>
                          <a:latin typeface="Times New Roman"/>
                          <a:ea typeface="Times New Roman"/>
                        </a:rPr>
                        <a:t>X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74160" marR="74160">
                    <a:lnL w="5760">
                      <a:solidFill>
                        <a:srgbClr val="f2f2f2"/>
                      </a:solidFill>
                    </a:lnL>
                    <a:lnR w="18720">
                      <a:solidFill>
                        <a:srgbClr val="f2f2f2"/>
                      </a:solidFill>
                    </a:lnR>
                    <a:lnT w="5760">
                      <a:solidFill>
                        <a:srgbClr val="f2f2f2"/>
                      </a:solidFill>
                    </a:lnT>
                    <a:lnB w="5760">
                      <a:solidFill>
                        <a:srgbClr val="f2f2f2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8000" y="515880"/>
            <a:ext cx="6753240" cy="690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8faadc"/>
                </a:solidFill>
                <a:latin typeface="Times New Roman"/>
                <a:ea typeface="Times New Roman"/>
              </a:rPr>
              <a:t>4. CONSIDERAÇÕES FINAIS</a:t>
            </a:r>
            <a:endParaRPr b="0" lang="en-US" sz="2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37760" y="1541520"/>
            <a:ext cx="9047160" cy="49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Inserir texto. Se necessário, segue modelo de pontuação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001"/>
              </a:spcBef>
              <a:buClr>
                <a:srgbClr val="f2f2f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onto C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Exemplo de citação literal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Formatação que utiliza texto com recuo de 4 pontos para todas as linhas do parágrafo, com espaçamento simples e alinhamento justificado. Recomenda-se colocar a referência. (AUTOR, ano, p. xx-yy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7" descr="D:\coloquio.png"/>
          <p:cNvPicPr/>
          <p:nvPr/>
        </p:nvPicPr>
        <p:blipFill>
          <a:blip r:embed="rId2"/>
          <a:stretch/>
        </p:blipFill>
        <p:spPr>
          <a:xfrm>
            <a:off x="7272360" y="544680"/>
            <a:ext cx="2176560" cy="6220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64840" y="2573280"/>
            <a:ext cx="8775720" cy="171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NTATO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564840" y="4735440"/>
            <a:ext cx="8775720" cy="68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AU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Subtítulo 2"/>
          <p:cNvSpPr/>
          <p:nvPr/>
        </p:nvSpPr>
        <p:spPr>
          <a:xfrm>
            <a:off x="2336760" y="338040"/>
            <a:ext cx="5232600" cy="76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PROGRAMA DE PÓS-GRADUAÇÃO EM MÚSIC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2f2f2"/>
                </a:solidFill>
                <a:latin typeface="Times New Roman"/>
                <a:ea typeface="Times New Roman"/>
              </a:rPr>
              <a:t>COLÓQUIO 2017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9" descr=""/>
          <p:cNvPicPr/>
          <p:nvPr/>
        </p:nvPicPr>
        <p:blipFill>
          <a:blip r:embed="rId2"/>
          <a:stretch/>
        </p:blipFill>
        <p:spPr>
          <a:xfrm>
            <a:off x="7626240" y="388800"/>
            <a:ext cx="1689120" cy="6447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3" descr="D:\logo_unirio.png"/>
          <p:cNvPicPr/>
          <p:nvPr/>
        </p:nvPicPr>
        <p:blipFill>
          <a:blip r:embed="rId3"/>
          <a:stretch/>
        </p:blipFill>
        <p:spPr>
          <a:xfrm>
            <a:off x="614520" y="376200"/>
            <a:ext cx="1671480" cy="59220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12-11T05:44:00Z</dcterms:created>
  <dc:creator>Asus</dc:creator>
  <dc:description/>
  <dc:language>en-US</dc:language>
  <cp:lastModifiedBy>Dora</cp:lastModifiedBy>
  <dcterms:modified xsi:type="dcterms:W3CDTF">2017-05-31T15:23:15Z</dcterms:modified>
  <cp:revision>26</cp:revision>
  <dc:subject/>
  <dc:title>TÍTULO DO SEU TRABALHO: SUBTÍTULO</dc:title>
</cp:coreProperties>
</file>