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3E3E8-45E2-4D1F-892C-1ED20A8C4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1F453-8C69-45D3-A19D-E57D93F91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8EDB8-26C8-4504-AAB8-C559546B6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5902C-E3C9-4200-A6C4-E5CA4ECA7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9C807-71C2-41D7-868A-8B1AEDEB8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B2D48-2324-4FC5-8E45-CC66DFA63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8EF4C-8638-4C96-94D5-04B36984C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90953-1B4F-4FFB-A7D3-2C65FD3A5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FD6BA-0BD9-44CD-8245-DE5C56A4C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B91B8-229B-47CF-B32D-96C01EE5E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F8BE8-352C-4DF0-957A-AD66D4801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CB70E-7923-4532-B25D-1985FFAE9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BBC11-F8C3-4395-BDE0-43FBF6F4A2F5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64840" y="1628640"/>
            <a:ext cx="8775720" cy="213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TÍTULO DO TRABALHO: SUBTÍTULO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64840" y="39560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ubtítulo 2"/>
          <p:cNvSpPr/>
          <p:nvPr/>
        </p:nvSpPr>
        <p:spPr>
          <a:xfrm>
            <a:off x="565200" y="4789440"/>
            <a:ext cx="87757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Orientad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Subtítulo 2"/>
          <p:cNvSpPr/>
          <p:nvPr/>
        </p:nvSpPr>
        <p:spPr>
          <a:xfrm>
            <a:off x="565200" y="5300640"/>
            <a:ext cx="8775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Co-orientador (se já houv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ubtítulo 2"/>
          <p:cNvSpPr/>
          <p:nvPr/>
        </p:nvSpPr>
        <p:spPr>
          <a:xfrm>
            <a:off x="3443400" y="5954760"/>
            <a:ext cx="3027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Rio de Janeiro, 201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1. INTRODUÇÃO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2. DESENVOLVIMENTO A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3. DESENVOLVIMENTO B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adro/tabela, caso seja necessári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473040" y="3238560"/>
          <a:ext cx="8972640" cy="2773440"/>
        </p:xfrm>
        <a:graphic>
          <a:graphicData uri="http://schemas.openxmlformats.org/drawingml/2006/table">
            <a:tbl>
              <a:tblPr/>
              <a:tblGrid>
                <a:gridCol w="4022640"/>
                <a:gridCol w="706680"/>
                <a:gridCol w="707760"/>
                <a:gridCol w="706680"/>
                <a:gridCol w="707760"/>
                <a:gridCol w="706680"/>
                <a:gridCol w="708120"/>
                <a:gridCol w="706320"/>
              </a:tblGrid>
              <a:tr h="396720"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Tabela para cronogram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F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Ab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1. Atividade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2. Atividade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3. Atividade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4. Conclus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5. Entrega de relatór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6. Outra a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4. CONSIDERAÇÕES FINAIS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Inserir texto. Se necessário, segue modelo de pontuaçã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64840" y="2573280"/>
            <a:ext cx="87757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NTATO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564840" y="47354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1T05:44:00Z</dcterms:created>
  <dc:creator>Asus</dc:creator>
  <dc:description/>
  <dc:language>en-US</dc:language>
  <cp:lastModifiedBy>Dora</cp:lastModifiedBy>
  <dcterms:modified xsi:type="dcterms:W3CDTF">2017-05-31T15:23:15Z</dcterms:modified>
  <cp:revision>26</cp:revision>
  <dc:subject/>
  <dc:title>TÍTULO DO SEU TRABALHO: SUBTÍTULO</dc:title>
</cp:coreProperties>
</file>