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16268-CB77-40EE-830F-45C039F27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BBCAE-F367-410A-B91B-5739D9264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FB052-2BC9-4320-8845-9CBCB2B2D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72705-2CEF-49DD-97B2-AC19FA786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27BF6-11BC-47CF-AD65-3C86A65B4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DFF65-3396-4A7A-9EA5-3742CF5F6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ED12D-A03D-4DD5-A8DA-F45A242A2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A4F50-2239-4F3C-AA6F-DE5418564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51C6B-4230-4549-A27F-D30FA7F80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87765-87FE-4455-ABF8-6C6C9B69A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69EF8-840B-4828-9617-0B0A0196F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EFB54-6B40-4CC1-A255-6B5C964E8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278BA-2DC4-45EE-AFFD-C6CA8D3DE1E5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64840" y="1628640"/>
            <a:ext cx="8775720" cy="213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TÍTULO DO TRABALHO: SUBTÍTULO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64840" y="39560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ubtítulo 2"/>
          <p:cNvSpPr/>
          <p:nvPr/>
        </p:nvSpPr>
        <p:spPr>
          <a:xfrm>
            <a:off x="565200" y="4789440"/>
            <a:ext cx="87757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Orientad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Subtítulo 2"/>
          <p:cNvSpPr/>
          <p:nvPr/>
        </p:nvSpPr>
        <p:spPr>
          <a:xfrm>
            <a:off x="565200" y="5300640"/>
            <a:ext cx="8775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Co-orientador (se já houv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ubtítulo 2"/>
          <p:cNvSpPr/>
          <p:nvPr/>
        </p:nvSpPr>
        <p:spPr>
          <a:xfrm>
            <a:off x="3443400" y="5954760"/>
            <a:ext cx="3027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Rio de Janeiro, 201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1. INTRODUÇÃO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2. DESENVOLVIMENTO A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3. DESENVOLVIMENTO B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adro/tabela, caso seja necessári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473040" y="3238560"/>
          <a:ext cx="8972640" cy="2773440"/>
        </p:xfrm>
        <a:graphic>
          <a:graphicData uri="http://schemas.openxmlformats.org/drawingml/2006/table">
            <a:tbl>
              <a:tblPr/>
              <a:tblGrid>
                <a:gridCol w="4022640"/>
                <a:gridCol w="706680"/>
                <a:gridCol w="707760"/>
                <a:gridCol w="706680"/>
                <a:gridCol w="707760"/>
                <a:gridCol w="706680"/>
                <a:gridCol w="708120"/>
                <a:gridCol w="706320"/>
              </a:tblGrid>
              <a:tr h="396720"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Tabela para cronogram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F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Ab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1. Atividade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2. Atividade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3. Atividade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4. Conclus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5. Entrega de relatór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6. Outra a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4. CONSIDERAÇÕES FINAIS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Inserir texto. Se necessário, segue modelo de pontuaçã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64840" y="2573280"/>
            <a:ext cx="87757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NTATO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564840" y="47354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1T05:44:00Z</dcterms:created>
  <dc:creator>Asus</dc:creator>
  <dc:description/>
  <dc:language>en-US</dc:language>
  <cp:lastModifiedBy>Dora</cp:lastModifiedBy>
  <dcterms:modified xsi:type="dcterms:W3CDTF">2017-05-31T15:23:15Z</dcterms:modified>
  <cp:revision>26</cp:revision>
  <dc:subject/>
  <dc:title>TÍTULO DO SEU TRABALHO: SUBTÍTULO</dc:title>
</cp:coreProperties>
</file>