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89FBE-F96C-4797-BEB0-2DFE1B68A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D642F-9367-401D-9DEA-369EF1603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48DC7-FE71-4532-9148-E0BACD73D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EBE7F-742E-4508-876D-178A2EA52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11E6D-B90E-4F1A-945A-8CC001D7B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811EE-8DF0-4395-B825-0EAE22FFD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B6243-EA63-4771-A187-AD342060E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8B5CF-DE93-4DA2-B2F4-F1663A4A9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438F5-7FF1-4BA5-95D4-781994CB3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2FC0E-409A-4779-AB57-D5F56051C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C2828-8ACF-4C06-8220-3D7AD16BE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8FB81-9E0E-41B5-A5F5-E1314B566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BCA48-CA05-4D16-95A3-1DB0FDB280F4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64840" y="1628640"/>
            <a:ext cx="8775720" cy="213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TÍTULO DO TRABALHO: SUBTÍTULO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64840" y="39560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ubtítulo 2"/>
          <p:cNvSpPr/>
          <p:nvPr/>
        </p:nvSpPr>
        <p:spPr>
          <a:xfrm>
            <a:off x="565200" y="4789440"/>
            <a:ext cx="87757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Orientad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Subtítulo 2"/>
          <p:cNvSpPr/>
          <p:nvPr/>
        </p:nvSpPr>
        <p:spPr>
          <a:xfrm>
            <a:off x="565200" y="5300640"/>
            <a:ext cx="8775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Co-orientador (se já houv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ubtítulo 2"/>
          <p:cNvSpPr/>
          <p:nvPr/>
        </p:nvSpPr>
        <p:spPr>
          <a:xfrm>
            <a:off x="3443400" y="5954760"/>
            <a:ext cx="3027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Rio de Janeiro, 201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1. INTRODUÇÃO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2. DESENVOLVIMENTO A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3. DESENVOLVIMENTO B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adro/tabela, caso seja necessári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473040" y="3238560"/>
          <a:ext cx="8972640" cy="2773440"/>
        </p:xfrm>
        <a:graphic>
          <a:graphicData uri="http://schemas.openxmlformats.org/drawingml/2006/table">
            <a:tbl>
              <a:tblPr/>
              <a:tblGrid>
                <a:gridCol w="4022640"/>
                <a:gridCol w="706680"/>
                <a:gridCol w="707760"/>
                <a:gridCol w="706680"/>
                <a:gridCol w="707760"/>
                <a:gridCol w="706680"/>
                <a:gridCol w="708120"/>
                <a:gridCol w="706320"/>
              </a:tblGrid>
              <a:tr h="396720"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Tabela para cronogram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F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Ab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1. Atividade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2. Atividade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3. Atividade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4. Conclus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5. Entrega de relatór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6. Outra a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4. CONSIDERAÇÕES FINAIS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Inserir texto. Se necessário, segue modelo de pontuaçã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64840" y="2573280"/>
            <a:ext cx="87757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NTATO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564840" y="47354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1T05:44:00Z</dcterms:created>
  <dc:creator>Asus</dc:creator>
  <dc:description/>
  <dc:language>en-US</dc:language>
  <cp:lastModifiedBy>Dora</cp:lastModifiedBy>
  <dcterms:modified xsi:type="dcterms:W3CDTF">2017-05-31T15:23:15Z</dcterms:modified>
  <cp:revision>26</cp:revision>
  <dc:subject/>
  <dc:title>TÍTULO DO SEU TRABALHO: SUBTÍTULO</dc:title>
</cp:coreProperties>
</file>