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8D5D2-66A6-4D30-A0F1-D3F96BE9B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CD568-A97C-436C-A7ED-8916DB22C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6E9F5-2466-491A-90B1-DBB9066DD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1A3E4-4644-492D-A500-7F819E3A5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619C0-9221-4CED-8113-364B0330C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675B9-4553-4693-BB04-815DF42DA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0C7AE-6209-4173-89F6-13E4523AA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D7E40-C4E8-431D-8B29-06C17E1B8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C2F04-AFBD-47CB-93CB-549C929A4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18494-A404-4192-AE83-9FDB438C6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34B42-5B65-412B-A938-D3368A7A6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2EC74-6870-4775-B807-3EBB72205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3603E-FF7B-4E46-95CA-B158584837F9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64840" y="1628640"/>
            <a:ext cx="8775720" cy="213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TÍTULO DO TRABALHO: SUBTÍTULO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64840" y="39560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ubtítulo 2"/>
          <p:cNvSpPr/>
          <p:nvPr/>
        </p:nvSpPr>
        <p:spPr>
          <a:xfrm>
            <a:off x="565200" y="4789440"/>
            <a:ext cx="87757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Orientad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Subtítulo 2"/>
          <p:cNvSpPr/>
          <p:nvPr/>
        </p:nvSpPr>
        <p:spPr>
          <a:xfrm>
            <a:off x="565200" y="5300640"/>
            <a:ext cx="8775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Co-orientador (se já houv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ubtítulo 2"/>
          <p:cNvSpPr/>
          <p:nvPr/>
        </p:nvSpPr>
        <p:spPr>
          <a:xfrm>
            <a:off x="3443400" y="5954760"/>
            <a:ext cx="3027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Rio de Janeiro, 201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1. INTRODUÇÃO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2. DESENVOLVIMENTO A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3. DESENVOLVIMENTO B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adro/tabela, caso seja necessári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473040" y="3238560"/>
          <a:ext cx="8972640" cy="2773440"/>
        </p:xfrm>
        <a:graphic>
          <a:graphicData uri="http://schemas.openxmlformats.org/drawingml/2006/table">
            <a:tbl>
              <a:tblPr/>
              <a:tblGrid>
                <a:gridCol w="4022640"/>
                <a:gridCol w="706680"/>
                <a:gridCol w="707760"/>
                <a:gridCol w="706680"/>
                <a:gridCol w="707760"/>
                <a:gridCol w="706680"/>
                <a:gridCol w="708120"/>
                <a:gridCol w="706320"/>
              </a:tblGrid>
              <a:tr h="396720"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Tabela para cronogram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F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Ab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1. Atividade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2. Atividade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3. Atividade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4. Conclus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5. Entrega de relatór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6. Outra a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4. CONSIDERAÇÕES FINAIS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Inserir texto. Se necessário, segue modelo de pontuaçã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64840" y="2573280"/>
            <a:ext cx="87757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NTATO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564840" y="47354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1T05:44:00Z</dcterms:created>
  <dc:creator>Asus</dc:creator>
  <dc:description/>
  <dc:language>en-US</dc:language>
  <cp:lastModifiedBy>Dora</cp:lastModifiedBy>
  <dcterms:modified xsi:type="dcterms:W3CDTF">2017-05-31T15:23:15Z</dcterms:modified>
  <cp:revision>26</cp:revision>
  <dc:subject/>
  <dc:title>TÍTULO DO SEU TRABALHO: SUBTÍTULO</dc:title>
</cp:coreProperties>
</file>